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D1A2B1-8B0E-436B-BB91-A84A966BF1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D527A5-E222-4FB4-B7C9-A2AB71A870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8EEE8D-F9A8-4A70-9A34-09B5D6B362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237C02-A697-4951-BD86-F00CE81F23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52CABF-2032-4D0D-BD64-EB6CB7F019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F4184A-090E-4F8D-AABF-053DE89ECE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AD3241-BE42-43E0-90E0-19724F8C28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341B57-2BAA-4B89-9D60-4314A9C4B7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BAC0F6-BBFE-42C4-927C-0864C23B2F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05A5C5-A6D0-424F-AB26-5468D76324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7BFD6-F948-44E3-A88B-02A9BE82DD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21EE8-BD78-4580-ADA2-666235507F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75"/>
            </a:gs>
            <a:gs pos="100000">
              <a:srgbClr val="cccc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9BE68-918D-4C29-8CE5-03A87CA24D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75"/>
            </a:gs>
            <a:gs pos="100000">
              <a:srgbClr val="ccccff"/>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DE FINANCE</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75"/>
            </a:gs>
            <a:gs pos="100000">
              <a:srgbClr val="ccccff"/>
            </a:gs>
          </a:gsLst>
          <a:lin ang="135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y Documentary Credits</a:t>
            </a:r>
            <a:endParaRPr b="0" lang="en-US" sz="40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w of the rules are subject to any national or international law. Provisions of International Chamber of Commerce &amp; Industry (ICC) important, but not foolproo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ly adopted set of rules for credits known as the Uniform Customs and Practice for Letters of Credit (UCP) issued by ICC, publication no.500 dated 1993.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bility when the clause is incorporated in the Credi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ee major parties: the beneficiary, the opening or issuing bank and the applica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suing of L/C: by post, by telex or by SWIF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75"/>
            </a:gs>
            <a:gs pos="100000">
              <a:srgbClr val="ccccff"/>
            </a:gs>
          </a:gsLst>
          <a:lin ang="135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fferent Types of Letters of Credit</a:t>
            </a:r>
            <a:endParaRPr b="0" lang="en-US" sz="3600" spc="-1" strike="noStrike">
              <a:solidFill>
                <a:srgbClr val="000000"/>
              </a:solidFill>
              <a:latin typeface="Times New Roman"/>
            </a:endParaRPr>
          </a:p>
        </p:txBody>
      </p:sp>
      <p:sp>
        <p:nvSpPr>
          <p:cNvPr id="62"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ocable: Can be amended or cancelled at any time before payment made by another bank (Article 8)</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revocable Unconfirmed: Under UCP 500 (Article 6c) all L/Cs are irrevocable unless specified otherwis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revocable Confirmed: Confirming Bank adds his backing; concept of `with’ or `without’ recours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ferable: can be transferred only once (Article 48 ), can be transferred to more than one par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ndby: not a documentary L/C but a guarantee issued by a bank in a L/C form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75"/>
            </a:gs>
            <a:gs pos="100000">
              <a:srgbClr val="ccccff"/>
            </a:gs>
          </a:gsLst>
          <a:lin ang="135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yment Structures</a:t>
            </a:r>
            <a:endParaRPr b="0" lang="en-US" sz="36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ght Credit: On presentation of documents at the paying bank</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erred payment: Payment on maturity date</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gotiation Credit: Advising Bank or another Bank buys the documents from the exporter, normally with recourse. Concept of `restricted credit’. Also Payment and Acceptance Credits.</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vance Payment or Red Clause Credit</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olving Credits</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ck to back L/C</a:t>
            </a: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75"/>
            </a:gs>
            <a:gs pos="100000">
              <a:srgbClr val="ccccff"/>
            </a:gs>
          </a:gsLst>
          <a:lin ang="135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eck List for Issuing/Accepting L/C</a:t>
            </a:r>
            <a:endParaRPr b="0" lang="en-US" sz="36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of Issuing Bank</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thod of Payment: Sight or Deferred Basi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sport Document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 Document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cuments: Banks deal in documents not in goods or services (Article 4)</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uld not contain excessive detail (Article 5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ing: UCP norm is max. 21 days after shipment date  for presentation of documents (Article 4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75"/>
            </a:gs>
            <a:gs pos="100000">
              <a:srgbClr val="ccccff"/>
            </a:gs>
          </a:gsLst>
          <a:lin ang="135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Times New Roman"/>
              </a:rPr>
              <a:t>Responsibilities and Obligations of Banks</a:t>
            </a:r>
            <a:br>
              <a:rPr sz="3600"/>
            </a:br>
            <a:endParaRPr b="0" lang="en-US" sz="3600" spc="-1" strike="noStrike">
              <a:solidFill>
                <a:srgbClr val="000000"/>
              </a:solidFill>
              <a:latin typeface="Times New Roman"/>
            </a:endParaRPr>
          </a:p>
        </p:txBody>
      </p:sp>
      <p:sp>
        <p:nvSpPr>
          <p:cNvPr id="68"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suing Bank: Prime obligatio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ising Bank: Only obligation to authenticate the credit and passing it on promptly to beneficiary (Article 7)</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firming Bank: takes over payment responsibilities of the issuing bank as far as the beneficiary is concerne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imbursing Bank: Responsibility of Issuing Bank to provide proper reimbursement instruction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bility of Force Majeure clause (Article 17) limiting banks’ liability on account of Acts of God, riots, etc.</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75"/>
            </a:gs>
            <a:gs pos="100000">
              <a:srgbClr val="ccccff"/>
            </a:gs>
          </a:gsLst>
          <a:lin ang="135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ocuments</a:t>
            </a:r>
            <a:endParaRPr b="0" lang="en-US" sz="3600" spc="-1" strike="noStrike">
              <a:solidFill>
                <a:srgbClr val="000000"/>
              </a:solidFill>
              <a:latin typeface="Times New Roman"/>
            </a:endParaRPr>
          </a:p>
        </p:txBody>
      </p:sp>
      <p:sp>
        <p:nvSpPr>
          <p:cNvPr id="70"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uld be consistent with each other and comple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form with the terms of the credi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y with the provisions of UC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nks must examine all documents stipulated in the Credit with reasonable car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bank will have a reasonable time not exceeding seven banking days following the day of receipt to examine the documents (Article 13b)</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ept of discrepant documents (Article 14)</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75"/>
            </a:gs>
            <a:gs pos="100000">
              <a:srgbClr val="ccccff"/>
            </a:gs>
          </a:gsLst>
          <a:lin ang="135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ptions for Banks dealing in Discrepant Documents</a:t>
            </a:r>
            <a:endParaRPr b="0" lang="en-US" sz="36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k beneficiaries to make correc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pt minor discrepancies and pay under reserv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tain indemnity from sell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lex/fax details of discrepancies to the issuing bank and request permission to p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nd the documents on collection</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75"/>
            </a:gs>
            <a:gs pos="100000">
              <a:srgbClr val="ccccff"/>
            </a:gs>
          </a:gsLst>
          <a:lin ang="135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rine or Ocean Bill of Lading</a:t>
            </a:r>
            <a:endParaRPr b="0"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are documents of title. Should be signed by ship’s master or his named agent (Article 23)</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stated that goods are on board, then dated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port and disport should be name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 Deck’ transport document not allowe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ean Transport Document (Article 32)</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si-negotiable: transferable by endorsement and physical delivery, but no recours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shipment allowed unless prohibited in L/C</a:t>
            </a:r>
            <a:endParaRPr b="0" lang="en-US" sz="28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75"/>
            </a:gs>
            <a:gs pos="100000">
              <a:srgbClr val="ccccff"/>
            </a:gs>
          </a:gsLst>
          <a:lin ang="135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ther Transport Documents</a:t>
            </a:r>
            <a:endParaRPr b="0" lang="en-US" sz="36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ome multi-modal transport operators (MTOs) also issue negotiable documents for transport operations where the goods are carried by several different modes of transpor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day goods often travel faster than the related documents. </a:t>
            </a:r>
            <a:r>
              <a:rPr b="0" lang="en-GB" sz="2800" spc="-1" strike="noStrike">
                <a:solidFill>
                  <a:srgbClr val="000000"/>
                </a:solidFill>
                <a:latin typeface="Times New Roman"/>
              </a:rPr>
              <a:t>Rail, road and air transport documents are issued only in non-negotiable form with the goods consigned direct to a named consignee. Usually this will be the buyer unless the goods are consigned to a ban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75"/>
            </a:gs>
            <a:gs pos="100000">
              <a:srgbClr val="ccccff"/>
            </a:gs>
          </a:gsLst>
          <a:lin ang="135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ther Transport Documents</a:t>
            </a:r>
            <a:endParaRPr b="0" lang="en-US" sz="3600" spc="-1" strike="noStrike">
              <a:solidFill>
                <a:srgbClr val="000000"/>
              </a:solidFill>
              <a:latin typeface="Times New Roman"/>
            </a:endParaRPr>
          </a:p>
        </p:txBody>
      </p:sp>
      <p:sp>
        <p:nvSpPr>
          <p:cNvPr id="78"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n-Negotiable Sea Waybill (Article 24)</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rter Party Bill of Lading (Article 25)</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modal Transport Document (Article 26)</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ir Transport Document (Article 27)</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ad, Rail or Inland Waterway Transport Documents (Article 28)</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t Office and Courier Receipts (Article 29)</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eight Forwarders’ and Warehouse Receipts (Article 30)</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75"/>
            </a:gs>
            <a:gs pos="100000">
              <a:srgbClr val="ccccff"/>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ypes of Trade Settlement</a:t>
            </a:r>
            <a:endParaRPr b="0" lang="en-US" sz="36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 Account: Long experience of trading between buyer and sell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vance Pay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cumentary D/P Collec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cumentary D/A Collec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cumentary Letters of Credi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ing</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75"/>
            </a:gs>
            <a:gs pos="100000">
              <a:srgbClr val="ccccff"/>
            </a:gs>
          </a:gsLst>
          <a:lin ang="135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on-Transport Documents</a:t>
            </a:r>
            <a:endParaRPr b="0" lang="en-US" sz="3600" spc="-1" strike="noStrike">
              <a:solidFill>
                <a:srgbClr val="000000"/>
              </a:solidFill>
              <a:latin typeface="Times New Roman"/>
            </a:endParaRPr>
          </a:p>
        </p:txBody>
      </p:sp>
      <p:sp>
        <p:nvSpPr>
          <p:cNvPr id="80"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urance Documents (Articles 34,35,36): Same currency as the Credit, Minimum amount to be CIF or CIP plus 10%, </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ercial Invoices (Article 37)</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ular Invoice</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rtificate of Origin</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ight List</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king List</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pection or Survey Certificate</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st Certificates</a:t>
            </a:r>
            <a:endParaRPr b="0" lang="en-US" sz="2800" spc="-1" strike="noStrike">
              <a:solidFill>
                <a:srgbClr val="000000"/>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75"/>
            </a:gs>
            <a:gs pos="100000">
              <a:srgbClr val="ccccff"/>
            </a:gs>
          </a:gsLst>
          <a:lin ang="135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port Finance in India</a:t>
            </a:r>
            <a:endParaRPr b="0" lang="en-US" sz="36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ort Finance is made available to exporters for the specific purpose of procuring/ purchase, processing/ production/ manufacturing, packing and shipment of goods meant for expor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inly working capital advance extended to exporters to meet their pre and post shipment requiremen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75"/>
            </a:gs>
            <a:gs pos="100000">
              <a:srgbClr val="ccccff"/>
            </a:gs>
          </a:gsLst>
          <a:lin ang="135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e-shipment Export Finance</a:t>
            </a:r>
            <a:endParaRPr b="0" lang="en-US" sz="3600" spc="-1" strike="noStrike">
              <a:solidFill>
                <a:srgbClr val="000000"/>
              </a:solidFill>
              <a:latin typeface="Times New Roman"/>
            </a:endParaRPr>
          </a:p>
        </p:txBody>
      </p:sp>
      <p:sp>
        <p:nvSpPr>
          <p:cNvPr id="84"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extended to the customers for procuring goods, purchase of raw materials, processing them and converting them into finished goods for the purpose of export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ype of limit depends upon the nature of production and procurement system concerning the commodity to be exporte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ean Export Packing Credit (EPC) can be granted when first class clients have to give advance payment to the supplier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75"/>
            </a:gs>
            <a:gs pos="100000">
              <a:srgbClr val="ccccff"/>
            </a:gs>
          </a:gsLst>
          <a:lin ang="135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e-shipment Export Finance</a:t>
            </a:r>
            <a:endParaRPr b="0" lang="en-US" sz="36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lean advance is converted to EPC hypothecation/ pledge or secured shipping loan depending upon the nature of the commodit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king credit hypothecation is extended where raw materials, work-in-process and finished goods meant for exports are available as security. The processing/ manufacturing may be undertaken by the exporter himself or through sub-contractors as captive uni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75"/>
            </a:gs>
            <a:gs pos="100000">
              <a:srgbClr val="ccccff"/>
            </a:gs>
          </a:gsLst>
          <a:lin ang="135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e-shipment Export Finance</a:t>
            </a:r>
            <a:endParaRPr b="0" lang="en-US" sz="36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exporters have to obtain the raw materials in bunched lots or the material procured may be sizeable in nature. In such cases packing credit loan can be granted in the form of pled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ce the goods are ready for shipment and the exporter/ supplier has handed over the goods to the transporter/ clearing and forwarding agents for effecting the shipment, the advance can be granted as secured shipping loan.</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75"/>
            </a:gs>
            <a:gs pos="100000">
              <a:srgbClr val="ccccff"/>
            </a:gs>
          </a:gsLst>
          <a:lin ang="135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e-shipment Export Finance</a:t>
            </a:r>
            <a:endParaRPr b="0" lang="en-US" sz="36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the exporter procures goods from sub-suppliers, back to back L/C facility can be extended. EPC can be granted to sub-supplier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PC is usually released on the basis of L/Cs or a confirmed order. If EPC is granted on the basis of a cable or telex message from the overseas buyer, then the exporter has to submit the original L/C or order once it is received. The L/C or order is stamped with the Bank’s stamp in order to prevent the exporter from availing of EPC from another source.</a:t>
            </a:r>
            <a:endParaRPr b="0" lang="en-US" sz="2800" spc="-1" strike="noStrike">
              <a:solidFill>
                <a:srgbClr val="000000"/>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75"/>
            </a:gs>
            <a:gs pos="100000">
              <a:srgbClr val="ccccff"/>
            </a:gs>
          </a:gsLst>
          <a:lin ang="135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e-shipment Export Finance</a:t>
            </a:r>
            <a:endParaRPr b="0" lang="en-US" sz="4000" spc="-1" strike="noStrike">
              <a:solidFill>
                <a:srgbClr val="000000"/>
              </a:solidFill>
              <a:latin typeface="Times New Roman"/>
            </a:endParaRPr>
          </a:p>
        </p:txBody>
      </p:sp>
      <p:sp>
        <p:nvSpPr>
          <p:cNvPr id="9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hipment advance is usually granted up to a maximum of 180 days or expiry of relative LC or order, whichever is earlier. In some cases EPC can go up to 360 day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hipment Credit can be in Indian Rupees or in Foreign Currency. This facility was given as exporters complained that interest in India was high.</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pre-shipment finance is self-liquidating in nature from post-shipment finance. If pre-shipment advances are not adjusted by submission of export documents, the advances will cease to qualify for concessional rate of interest ab initio.</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dinarily, each packing credit sanctioned should be maintained as a separate account for the purpose of monitoring of sanction and end-use of funds.</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75"/>
            </a:gs>
            <a:gs pos="100000">
              <a:srgbClr val="ccccff"/>
            </a:gs>
          </a:gsLst>
          <a:lin ang="135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e-shipment Export Finance</a:t>
            </a:r>
            <a:endParaRPr b="0" lang="en-US" sz="3600" spc="-1" strike="noStrike">
              <a:solidFill>
                <a:srgbClr val="000000"/>
              </a:solidFill>
              <a:latin typeface="Times New Roman"/>
            </a:endParaRPr>
          </a:p>
        </p:txBody>
      </p:sp>
      <p:sp>
        <p:nvSpPr>
          <p:cNvPr id="94"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nks may release the packing credit in one lump-sum or in stages as per requiremen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case of clients with good track record banks may extend Pre-shipment Credit </a:t>
            </a:r>
            <a:r>
              <a:rPr b="1" lang="en-US" sz="2400" spc="-1" strike="noStrike">
                <a:solidFill>
                  <a:srgbClr val="000000"/>
                </a:solidFill>
                <a:latin typeface="Times New Roman"/>
              </a:rPr>
              <a:t>‘Running Account’ </a:t>
            </a:r>
            <a:r>
              <a:rPr b="0" lang="en-US" sz="2400" spc="-1" strike="noStrike">
                <a:solidFill>
                  <a:srgbClr val="000000"/>
                </a:solidFill>
                <a:latin typeface="Times New Roman"/>
              </a:rPr>
              <a:t>facility, without insisting on prior lodgement of letters of credit/firm export orders. However, letters of credit/firm orders should be produced within a reasonable period of time to be decided by the banks. Banks should mark off individual export bills, as and when they are received for negotiation/collection, against the earliest outstanding pre-shipment credit on 'First In First Out' (FIFO) basi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75"/>
            </a:gs>
            <a:gs pos="100000">
              <a:srgbClr val="ccccff"/>
            </a:gs>
          </a:gsLst>
          <a:lin ang="135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st Shipment Export Finance</a:t>
            </a:r>
            <a:endParaRPr b="0" lang="en-US" sz="36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t-shipment finance means any credit provided by a bank to an exporter from the date of extending the credit after shipment of goods to the date of realisation of sale proceed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t-shipment advance mainly take the form of -</a:t>
            </a: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 Export bills purchased/ discounted/ negotiated</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i) Advances against bills for collection</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ii) Advances against duty drawback receivable from Government </a:t>
            </a:r>
            <a:endParaRPr b="0" lang="en-US" sz="2800" spc="-1" strike="noStrike">
              <a:solidFill>
                <a:srgbClr val="000000"/>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75"/>
            </a:gs>
            <a:gs pos="100000">
              <a:srgbClr val="ccccff"/>
            </a:gs>
          </a:gsLst>
          <a:lin ang="135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dvances against shipping documents</a:t>
            </a:r>
            <a:endParaRPr b="0" lang="en-US" sz="3600" spc="-1" strike="noStrike">
              <a:solidFill>
                <a:srgbClr val="000000"/>
              </a:solidFill>
              <a:latin typeface="Times New Roman"/>
            </a:endParaRPr>
          </a:p>
        </p:txBody>
      </p:sp>
      <p:sp>
        <p:nvSpPr>
          <p:cNvPr id="9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be granted against bills drawn under LCs or against non credit bills where goods are shipped under firm order. In such cases creditworthiness of both exporter and overseas buyer have to be assessed. Further economic and political conditions and exchange control regulations of the buyer’s country have to be checked.</a:t>
            </a:r>
            <a:endParaRPr b="0" lang="en-US" sz="2800" spc="-1" strike="noStrike">
              <a:solidFill>
                <a:srgbClr val="000000"/>
              </a:solidFill>
              <a:latin typeface="Times New Roman"/>
            </a:endParaRPr>
          </a:p>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dit can be granted for the normal transit period in the case of demand bills and a maximum period of 180 days in the case of usance bills.</a:t>
            </a:r>
            <a:endParaRPr b="0" lang="en-US" sz="2800" spc="-1" strike="noStrike">
              <a:solidFill>
                <a:srgbClr val="000000"/>
              </a:solidFill>
              <a:latin typeface="Times New Roman"/>
            </a:endParaRPr>
          </a:p>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export of capital goods, post shipment credit for a period exceeding one year can be granted.</a:t>
            </a:r>
            <a:endParaRPr b="0" lang="en-US" sz="2800" spc="-1" strike="noStrike">
              <a:solidFill>
                <a:srgbClr val="000000"/>
              </a:solidFill>
              <a:latin typeface="Times New Roman"/>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75"/>
            </a:gs>
            <a:gs pos="100000">
              <a:srgbClr val="ccccff"/>
            </a:gs>
          </a:gsLst>
          <a:lin ang="135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yment and Short Credit Mechanisms</a:t>
            </a:r>
            <a:endParaRPr b="0" lang="en-US" sz="36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pen Accou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eller bills buyer and dispatches go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o security for pay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imple to administer and few banking fees/cos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dvantageous to import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y be difficult for regulatory reason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75"/>
            </a:gs>
            <a:gs pos="100000">
              <a:srgbClr val="ccccff"/>
            </a:gs>
          </a:gsLst>
          <a:lin ang="135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600" spc="-1" strike="noStrike">
                <a:solidFill>
                  <a:srgbClr val="000000"/>
                </a:solidFill>
                <a:latin typeface="Times New Roman"/>
              </a:rPr>
              <a:t>Advances against duty drawbacks</a:t>
            </a:r>
            <a:br>
              <a:rPr sz="3600"/>
            </a:br>
            <a:endParaRPr b="0" lang="en-US" sz="36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nks may grant post-shipment advances to exporters against their duty drawback entitlements as provisionally certified by Customs Authorities pending final sanction and pay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ch advances would be eligible for concessional finance and refinance from RBI up to a maximum period of  90 days from the date of advance.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75"/>
            </a:gs>
            <a:gs pos="100000">
              <a:srgbClr val="ccccff"/>
            </a:gs>
          </a:gsLst>
          <a:lin ang="135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port Credit in Foreign Currency</a:t>
            </a:r>
            <a:endParaRPr b="0" lang="en-US" sz="36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 a view to making credit available to exporters at internationally competitive rates, ADs have been permitted to extend pre-shipment credit in foreign currency (PCFC) to exporters for domestic and imported inputs of exported goods at LIBOR related rates of interes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acility may be extended in one of the convertible currencies, viz. US Dollars, Pound Sterling, Japanese Yen, Euro, et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75"/>
            </a:gs>
            <a:gs pos="100000">
              <a:srgbClr val="ccccff"/>
            </a:gs>
          </a:gsLst>
          <a:lin ang="135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4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CFC</a:t>
            </a:r>
            <a:endParaRPr b="0" lang="en-US" sz="3600" spc="-1" strike="noStrike">
              <a:solidFill>
                <a:srgbClr val="000000"/>
              </a:solidFill>
              <a:latin typeface="Times New Roman"/>
            </a:endParaRPr>
          </a:p>
        </p:txBody>
      </p:sp>
      <p:sp>
        <p:nvSpPr>
          <p:cNvPr id="104"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enable exporters to have operational flexibility, banks may extend PCFC in one convertible currency for an export order invoiced in another convertible currency.</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ending rate to the exporter should not exceed 0.75% over LIBOR/ Euro LIBOR, excluding withholding tax</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ually for a maximum period of 180 days</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CFC should be self-liquidating in nature. </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ayment may be with documents relating to any other export order: `running account’ facil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75"/>
            </a:gs>
            <a:gs pos="100000">
              <a:srgbClr val="ccccff"/>
            </a:gs>
          </a:gsLst>
          <a:lin ang="135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discounting of Export Bills Abroad Scheme (EBR)</a:t>
            </a:r>
            <a:endParaRPr b="0" lang="en-US" sz="3600" spc="-1" strike="noStrike">
              <a:solidFill>
                <a:srgbClr val="000000"/>
              </a:solidFill>
              <a:latin typeface="Times New Roman"/>
            </a:endParaRPr>
          </a:p>
        </p:txBody>
      </p:sp>
      <p:sp>
        <p:nvSpPr>
          <p:cNvPr id="106"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xporters have the option to avail of pre-shipment  and post-shipment credit either in rupee or in foreign currency. However, if the pre-shipment credit has been availed in foreign currency, the post-shipment credit has necessarily to be under the EBR scheme. </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xporters, on their own, can also arrange for themselves a line of credit with an overseas bank or any other agency (including a factoring agency) for discounting their export bills. </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cover mainly usance export bills up to 180 days usance from the date of shipm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75"/>
            </a:gs>
            <a:gs pos="100000">
              <a:srgbClr val="ccccff"/>
            </a:gs>
          </a:gsLst>
          <a:lin ang="135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erest Rates to Exporters</a:t>
            </a:r>
            <a:endParaRPr b="0" lang="en-US" sz="3600" spc="-1" strike="noStrike">
              <a:solidFill>
                <a:srgbClr val="000000"/>
              </a:solidFill>
              <a:latin typeface="Times New Roman"/>
            </a:endParaRPr>
          </a:p>
        </p:txBody>
      </p:sp>
      <p:sp>
        <p:nvSpPr>
          <p:cNvPr id="108"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nks at present charge a maximum of 250 basis points below PLR.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tes will be applicable for pre-shipment up to 180 days, post-shipment credit up to 90 day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orters under special financial package to receive concessional rate of interest for extended period of 365 day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est rates for foreign currency loans to exporters will be at LIBOR plus a maximum 0.75%</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75"/>
            </a:gs>
            <a:gs pos="100000">
              <a:srgbClr val="ccccff"/>
            </a:gs>
          </a:gsLst>
          <a:lin ang="135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port Credit Guarantee Corporation</a:t>
            </a:r>
            <a:endParaRPr b="0" lang="en-US" sz="36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sks involved in export trade are usually more than that involved in internal trad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isk of loss or damage to the goods is covered by marine and general insuranc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CGC covers risks of exporters normally not covered by other institutio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ndard Policies issued by ECGC cover commercial and political risk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75"/>
            </a:gs>
            <a:gs pos="100000">
              <a:srgbClr val="ccccff"/>
            </a:gs>
          </a:gsLst>
          <a:lin ang="135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CGC contd.</a:t>
            </a:r>
            <a:endParaRPr b="0" lang="en-US" sz="36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ercial Risks covered include:</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olvency of buy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yer’s protracted default to pay for goods accepted by hi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yer’s failure to accept the goods, when such non-acceptance is not due to the exporter’s action</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75"/>
            </a:gs>
            <a:gs pos="100000">
              <a:srgbClr val="ccccff"/>
            </a:gs>
          </a:gsLst>
          <a:lin ang="135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CGC contd.</a:t>
            </a:r>
            <a:endParaRPr b="0" lang="en-US" sz="36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litical Risks covered include:</a:t>
            </a: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trictions on remittances in the buyer’s country or any Government action which may block or delay payment in Rupees to the exporter</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r, revolution or civil disturbances in the buyer’s country</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cellation of export licence or imposition of new export licensing restriction in India</a:t>
            </a: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75"/>
            </a:gs>
            <a:gs pos="100000">
              <a:srgbClr val="ccccff"/>
            </a:gs>
          </a:gsLst>
          <a:lin ang="135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CGC contd.</a:t>
            </a:r>
            <a:endParaRPr b="0" lang="en-US" sz="36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llowing risks are not covered by the policy:</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putes in qualit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uses inherent in the nature of the go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ault of an exporter or his ag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luctuations in exchange rate</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75"/>
            </a:gs>
            <a:gs pos="100000">
              <a:srgbClr val="ccccff"/>
            </a:gs>
          </a:gsLst>
          <a:lin ang="135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CGC contd.</a:t>
            </a:r>
            <a:endParaRPr b="0" lang="en-US" sz="36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xporter is expected to include all shipments made by him in a period of 12 months for which the policy is valid by way of declaration to ECGC.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emium payable is determined on the basis of monthly declarations of the exporter</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olicy may cover both political and commercial risks (comprehensive policy) or cover only political risk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CGC pays up to 90% of the loss on claims submitted to it</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75"/>
            </a:gs>
            <a:gs pos="100000">
              <a:srgbClr val="ccccff"/>
            </a:gs>
          </a:gsLst>
          <a:lin ang="135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ocumentary Collections</a:t>
            </a:r>
            <a:endParaRPr b="0" lang="en-US" sz="36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 ensure the buyer should not be able to take possession of the goods until the buyer has paid or given a negotiable payment undertak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in international rules and practices applicable to such operations have been codified by the International Chamber of Commerce (ICC), and published in the Uniform Rules for Collections (URC). Latest version of the URC drawn up in 1995.</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75"/>
            </a:gs>
            <a:gs pos="100000">
              <a:srgbClr val="ccccff"/>
            </a:gs>
          </a:gsLst>
          <a:lin ang="135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CGC’s other policies</a:t>
            </a:r>
            <a:endParaRPr b="0" lang="en-US" sz="3600" spc="-1" strike="noStrike">
              <a:solidFill>
                <a:srgbClr val="000000"/>
              </a:solidFill>
              <a:latin typeface="Times New Roman"/>
            </a:endParaRPr>
          </a:p>
        </p:txBody>
      </p:sp>
      <p:sp>
        <p:nvSpPr>
          <p:cNvPr id="120"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CGC also covers advances made to exporters by banks at the pre-shipment and post-shipment stage. Guarantee protects the bank against failure of the exporter to repay the advance on account of his insolvency or protracted default to repay.</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wo most popular guarantees issued by ECGC are the packing credit guarantee and post-shipment guarantee. In order to encourage large scale use, they are available on whole turnover basis also.</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CGC offers a number of special risk covers to take care of exporters executing projects abroad, exchange fluctuation etc.</a:t>
            </a:r>
            <a:endParaRPr b="0" lang="en-US" sz="2800" spc="-1" strike="noStrike">
              <a:solidFill>
                <a:srgbClr val="000000"/>
              </a:solidFill>
              <a:latin typeface="Times New Roman"/>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75"/>
            </a:gs>
            <a:gs pos="100000">
              <a:srgbClr val="ccccff"/>
            </a:gs>
          </a:gsLst>
          <a:lin ang="135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rties to a Documentary Collection</a:t>
            </a:r>
            <a:endParaRPr b="0" lang="en-US" sz="36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xport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mitting Ban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esenting or Collecting Ban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dditional intermediary bank possi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mporter</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75"/>
            </a:gs>
            <a:gs pos="100000">
              <a:srgbClr val="ccccff"/>
            </a:gs>
          </a:gsLst>
          <a:lin ang="135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ypes of Payment</a:t>
            </a:r>
            <a:endParaRPr b="0" lang="en-US" sz="36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ocuments against Payment (D/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ocuments against Acceptance (D/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uyer needs documents to collect go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o bank undertaking to pay</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75"/>
            </a:gs>
            <a:gs pos="100000">
              <a:srgbClr val="ccccff"/>
            </a:gs>
          </a:gsLst>
          <a:lin ang="135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ocumentary Credits</a:t>
            </a:r>
            <a:endParaRPr b="0" lang="en-US" sz="3600" spc="-1" strike="noStrike">
              <a:solidFill>
                <a:srgbClr val="000000"/>
              </a:solidFill>
              <a:latin typeface="Times New Roman"/>
            </a:endParaRPr>
          </a:p>
        </p:txBody>
      </p:sp>
      <p:sp>
        <p:nvSpPr>
          <p:cNvPr id="54"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anks pay exporter against presentation of shipping documents</a:t>
            </a:r>
            <a:endParaRPr b="0" lang="en-US" sz="2800" spc="-1" strike="noStrike">
              <a:solidFill>
                <a:srgbClr val="000000"/>
              </a:solidFill>
              <a:latin typeface="Times New Roman"/>
            </a:endParaRPr>
          </a:p>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xporter obtains independent bank payment undertaking</a:t>
            </a:r>
            <a:endParaRPr b="0" lang="en-US" sz="2800" spc="-1" strike="noStrike">
              <a:solidFill>
                <a:srgbClr val="000000"/>
              </a:solidFill>
              <a:latin typeface="Times New Roman"/>
            </a:endParaRPr>
          </a:p>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inancing of exports become easier for exporter</a:t>
            </a:r>
            <a:endParaRPr b="0" lang="en-US" sz="2800" spc="-1" strike="noStrike">
              <a:solidFill>
                <a:srgbClr val="000000"/>
              </a:solidFill>
              <a:latin typeface="Times New Roman"/>
            </a:endParaRPr>
          </a:p>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xporter ensures fulfilment of exchange control regulations in importer’s country</a:t>
            </a:r>
            <a:endParaRPr b="0" lang="en-US" sz="2800" spc="-1" strike="noStrike">
              <a:solidFill>
                <a:srgbClr val="000000"/>
              </a:solidFill>
              <a:latin typeface="Times New Roman"/>
            </a:endParaRPr>
          </a:p>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or importer no payment without shipping and other documents to ensure quantity and quality</a:t>
            </a:r>
            <a:endParaRPr b="0" lang="en-US" sz="2800" spc="-1" strike="noStrike">
              <a:solidFill>
                <a:srgbClr val="000000"/>
              </a:solidFill>
              <a:latin typeface="Times New Roman"/>
            </a:endParaRPr>
          </a:p>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mporter does not have to make advance payment to exporter </a:t>
            </a:r>
            <a:endParaRPr b="0" lang="en-US" sz="2800" spc="-1" strike="noStrike">
              <a:solidFill>
                <a:srgbClr val="000000"/>
              </a:solidFill>
              <a:latin typeface="Times New Roman"/>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75"/>
            </a:gs>
            <a:gs pos="100000">
              <a:srgbClr val="ccccff"/>
            </a:gs>
          </a:gsLst>
          <a:lin ang="135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actoring</a:t>
            </a:r>
            <a:endParaRPr b="0" lang="en-US" sz="36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actoring companies buy trade debts at a discount and manage client corporations’ collection procedur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actor Buys Invoices from Sell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eller can obtain immediate discounted payment or payment on receivables maturity d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ayment may be with or without recourse</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75"/>
            </a:gs>
            <a:gs pos="100000">
              <a:srgbClr val="ccccff"/>
            </a:gs>
          </a:gsLst>
          <a:lin ang="135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y Documentary Credits</a:t>
            </a:r>
            <a:endParaRPr b="0" lang="en-US" sz="40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hange of goods and services across national boundaries brings greater problems to both buyer and seller than does domestic busines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versity of customs, standards, currencies, local regulations, languages and legal system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ocumentary Letter of Credit is widely used to reduce the financial risks of trad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orter wants to ensure performance while exporter wants to secure payment. </a:t>
            </a:r>
            <a:endParaRPr b="0" lang="en-US" sz="2800" spc="-1" strike="noStrike">
              <a:solidFill>
                <a:srgbClr val="000000"/>
              </a:solidFill>
              <a:latin typeface="Times New Roman"/>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30T19:55:39Z</dcterms:created>
  <dc:creator>OPEY A.</dc:creator>
  <dc:description/>
  <dc:language>en-US</dc:language>
  <cp:lastModifiedBy>Abhijit Roy</cp:lastModifiedBy>
  <dcterms:modified xsi:type="dcterms:W3CDTF">2006-07-31T18:48:17Z</dcterms:modified>
  <cp:revision>30</cp:revision>
  <dc:subject/>
  <dc:title>EXPORT FINANCE</dc:title>
</cp:coreProperties>
</file>